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69D-5688-4C0A-9E43-FA83291E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FFE-D991-480B-B907-806F7CAB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92A-A6C3-4407-A89A-79EB691A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EFC-6FF6-4B51-8699-6C98DDC0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DF45-8302-432C-A83F-FEC0E226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4DF-BEF7-4B30-8C48-E93B490B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4C72-EBA0-47AF-957F-364B0DE7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E2C9-FC62-45B5-99A2-F9688FFA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B38B-0420-4365-BCA4-3B267F9E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068A-D429-4E23-8EBB-3ACC10A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B4A0-6890-42B8-A968-B3856DB1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7A3-C8D2-4DD6-8405-9887FEB7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744B-4F15-4998-A4AC-8837F1E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9FB1-704B-4140-871C-6D8E8B79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62DE-472B-44B1-9959-CEAEBD82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1D38-E728-4B01-ACC9-C8A7FF02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E823-F8EA-4B1F-A13B-78447097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3E6-96B5-4445-9F79-60D5416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4D4-9C8A-4ED2-AD1F-9B4970C5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84F-B8E0-46DE-84FD-6CDFE645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715-B264-4998-B15C-9A87E87A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36F-7F52-4069-B256-604C0629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9FF-16C8-4050-A087-DDC97A7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EF8-2128-453F-9535-70CA46A3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3472-875C-4D55-8424-75C00D68871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827B-7A58-4870-9A00-AD0089D4D07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emonlemonade.files.wordpress.com/2010/06/goals2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6094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2f1311"/>
                </a:solidFill>
                <a:uFillTx/>
                <a:latin typeface="Alba Super"/>
              </a:rPr>
              <a:t>Setting Objectives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To provide direction for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438280"/>
            <a:ext cx="71625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hat will students learn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arrow student focus;  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Not too specific, but flexib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ersonalize  and communicate learning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goals (I can statement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003640"/>
            <a:ext cx="2438640" cy="162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5:11Z</dcterms:created>
  <dc:creator>workstation</dc:creator>
  <dc:description/>
  <dc:language>en-US</dc:language>
  <cp:lastModifiedBy>workstation</cp:lastModifiedBy>
  <dcterms:modified xsi:type="dcterms:W3CDTF">2010-08-03T14:38:58Z</dcterms:modified>
  <cp:revision>2</cp:revision>
  <dc:subject/>
  <dc:title>Slide 1</dc:title>
</cp:coreProperties>
</file>